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9BA-3A87-4CFF-B89D-E2D905EA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89C-DF40-4E8C-BA6C-44BBBEF6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418-373F-4E09-8D7E-E186381F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AE3-4313-4A8D-BE3F-238A081D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495-0FDD-44B6-877E-C4FC497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62B-ED96-4CB1-AC8F-A671BAB2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C1A-A852-4AEA-BBD0-66126D25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9C9-F54B-4923-AF9A-C736E2D7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3F3-A4A6-4AB1-904E-35DF668F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F52-6B69-4D05-8144-BF93AF0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423-B222-433F-98D7-BD5A2D16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972-4278-40EB-8463-AE170AC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64FC-3852-4992-8EAF-F64BF6F06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128811tjyYwEGwHP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762120"/>
            <a:ext cx="312408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 منصلّي بحرار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ركنا ي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طينا نعمة وطها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تى ما نخطى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نجوع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-masslg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4120" y="1523880"/>
            <a:ext cx="35812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لّع هالأرض بن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طهّرنا من أهل ال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ناولنا من أسر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حتى المحبّة تكبر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4TT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1523880"/>
            <a:ext cx="388620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بّل منا هالبخور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بارك كل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شترك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ولا المحبّة والنو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نا بقينا مخطيين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3-02-05T12:52:14Z</dcterms:modified>
  <cp:revision>4</cp:revision>
  <dc:subject/>
  <dc:title>PowerPoint Presentation</dc:title>
</cp:coreProperties>
</file>